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gif" ContentType="image/gif"/>
  <Override PartName="/ppt/media/image28.jpeg" ContentType="image/jpeg"/>
  <Override PartName="/ppt/media/image26.jpeg" ContentType="image/jpeg"/>
  <Override PartName="/ppt/media/image23.jpeg" ContentType="image/jpeg"/>
  <Override PartName="/ppt/media/image19.gif" ContentType="image/gif"/>
  <Override PartName="/ppt/media/image21.jpeg" ContentType="image/jpeg"/>
  <Override PartName="/ppt/media/image6.gif" ContentType="image/gif"/>
  <Override PartName="/ppt/media/image17.gif" ContentType="image/gif"/>
  <Override PartName="/ppt/media/image16.jpeg" ContentType="image/jpeg"/>
  <Override PartName="/ppt/media/image15.jpeg" ContentType="image/jpeg"/>
  <Override PartName="/ppt/media/image29.gif" ContentType="image/gif"/>
  <Override PartName="/ppt/media/image10.jpeg" ContentType="image/jpeg"/>
  <Override PartName="/ppt/media/image5.png" ContentType="image/png"/>
  <Override PartName="/ppt/media/image35.jpeg" ContentType="image/jpeg"/>
  <Override PartName="/ppt/media/image25.gif" ContentType="image/gif"/>
  <Override PartName="/ppt/media/image34.jpeg" ContentType="image/jpeg"/>
  <Override PartName="/ppt/media/image20.png" ContentType="image/png"/>
  <Override PartName="/ppt/media/image36.jpeg" ContentType="image/jpeg"/>
  <Override PartName="/ppt/media/image40.png" ContentType="image/png"/>
  <Override PartName="/ppt/media/image7.jpeg" ContentType="image/jpeg"/>
  <Override PartName="/ppt/media/image38.jpeg" ContentType="image/jpeg"/>
  <Override PartName="/ppt/media/image32.jpeg" ContentType="image/jpeg"/>
  <Override PartName="/ppt/media/image33.jpeg" ContentType="image/jpeg"/>
  <Override PartName="/ppt/media/image39.jpeg" ContentType="image/jpeg"/>
  <Override PartName="/ppt/media/image8.gif" ContentType="image/gif"/>
  <Override PartName="/ppt/media/image13.jpeg" ContentType="image/jpeg"/>
  <Override PartName="/ppt/media/image12.jpeg" ContentType="image/jpeg"/>
  <Override PartName="/ppt/media/image4.png" ContentType="image/png"/>
  <Override PartName="/ppt/media/image31.gif" ContentType="image/gif"/>
  <Override PartName="/ppt/media/image1.gif" ContentType="image/gif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media/image9.jpeg" ContentType="image/jpeg"/>
  <Override PartName="/ppt/media/image11.png" ContentType="image/png"/>
  <Override PartName="/ppt/media/image2.png" ContentType="image/png"/>
  <Override PartName="/ppt/media/image18.jpeg" ContentType="image/jpeg"/>
  <Override PartName="/ppt/media/image22.gif" ContentType="image/gif"/>
  <Override PartName="/ppt/media/image1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B463A-7AAD-423B-85DF-57EAA4AF52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B4DB3-6B09-47F2-95D9-D9436A05879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E8482-080A-40E7-B21D-471263C97AE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F7C40-FB98-47F3-B9C4-31EC846DFA3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F70A-601C-41E9-B308-680101180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0029-3218-4930-B963-024C2923B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FC1C-D96D-4CF0-A582-6E7A1FFF7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513F-D4E8-45E2-B79C-EB1F27F5B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DFFC-FD19-42BB-91B6-22EBF7A12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0B26-7E82-44F9-887A-83F4566F4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8A4E-8606-4F3A-8148-249BDC691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59E0-FAAD-4097-9C1A-F08F3306C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CA7F-56F6-4C73-9C87-5C8366049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7A1A-3326-461D-BB26-3F0EEFD4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E54B-AC2E-45FF-99C3-730C1DF6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C31F-7353-4D4D-B521-B4E594B0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3C2B2-B599-4184-B4E4-D85FB95643A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1.gif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8.gif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DD74D-E532-417B-AB29-D7EF6945F78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2CD16-839F-495C-8FF4-C169F730E4D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Por tanto, nosotros también, teniendo en derredor nuestro tan grande nube de testigos, despojémonos de todo peso y del pecado que nos asedia, y corramos con paciencia la carrera que tenemos por delante, puestos los ojos en Jesús, el autor y consumador de la fe, el cual por el gozo puesto delante de él sufrió la cruz, menospreciando el oprobio, y se sentó a la diestra del trono de Dios.” </a:t>
            </a: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(Hebreos </a:t>
            </a:r>
            <a:r>
              <a:rPr b="1" i="1" lang="en-US" sz="38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533E9-B172-4FEE-B378-DE5F99D387B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72864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arácter …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munica y construye CREDIBILIDAD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nlleva RESPET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rea CONSISTENCI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gana CONFIANZ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553C4-9E56-453F-A835-BBB869B5F4D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ISCIPLI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sonal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GURIDAD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 IDENTIDAD PERSONAL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6012000" y="836640"/>
            <a:ext cx="2966760" cy="1979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http://images.mylot.com/userImages/images/postphotos/2355283.gif"/>
          <p:cNvPicPr/>
          <p:nvPr/>
        </p:nvPicPr>
        <p:blipFill>
          <a:blip r:embed="rId2"/>
          <a:stretch/>
        </p:blipFill>
        <p:spPr>
          <a:xfrm>
            <a:off x="2916360" y="2816280"/>
            <a:ext cx="2570040" cy="2060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http://thumbs.dreamstime.com/x/generic-cartoon-person-walking-confidently-vector-clip-art-illustration-forward-34534212.jpg"/>
          <p:cNvPicPr/>
          <p:nvPr/>
        </p:nvPicPr>
        <p:blipFill>
          <a:blip r:embed="rId3"/>
          <a:stretch/>
        </p:blipFill>
        <p:spPr>
          <a:xfrm>
            <a:off x="7329600" y="4118040"/>
            <a:ext cx="1743120" cy="2674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5819B-94EF-4923-9C81-27D371A3F93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. Desarrollar CONVICCIONES PERSONALES, VALORES y ÉTIC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11" descr=""/>
          <p:cNvPicPr/>
          <p:nvPr/>
        </p:nvPicPr>
        <p:blipFill>
          <a:blip r:embed="rId1"/>
          <a:stretch/>
        </p:blipFill>
        <p:spPr>
          <a:xfrm>
            <a:off x="2344680" y="3143160"/>
            <a:ext cx="4452840" cy="3341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1C1D7-5558-4550-8479-3563E50E52E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11160" y="2276640"/>
            <a:ext cx="914400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1" lang="en-US" sz="49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49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16" descr="j0178299"/>
          <p:cNvPicPr/>
          <p:nvPr/>
        </p:nvPicPr>
        <p:blipFill>
          <a:blip r:embed="rId1"/>
          <a:stretch/>
        </p:blipFill>
        <p:spPr>
          <a:xfrm>
            <a:off x="4067280" y="1197000"/>
            <a:ext cx="971280" cy="9716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0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2"/>
          <a:stretch/>
        </p:blipFill>
        <p:spPr>
          <a:xfrm>
            <a:off x="2448000" y="4149720"/>
            <a:ext cx="4248000" cy="2540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774DD-7C90-4202-AA87-B13B4791D7E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0" y="9360"/>
            <a:ext cx="914400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Así que, hermanos, os ruego por las misericordias de Dios, que presentéis vuestros cuerpos 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crificio vivo, santo, agradable a Dios, que es vuestro culto racional. No os conforméis a este siglo,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sino transformaos por medio de la renovación de vuestro entendimiento, para que comprobéis cuál sea la buena voluntad de Dios, agradable y perfecta.”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Romano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BD8C0-7A73-4FFF-AEA7-2A6069E7924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08000" y="441000"/>
            <a:ext cx="9144000" cy="32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ra liderar a otros, debem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tres actitudes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otal rendimiento a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COMPROBA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PER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ESCON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4" descr="http://www.clipartbest.com/cliparts/7Ta/y6k/7Tay6kETA.jpeg"/>
          <p:cNvPicPr/>
          <p:nvPr/>
        </p:nvPicPr>
        <p:blipFill>
          <a:blip r:embed="rId1"/>
          <a:stretch/>
        </p:blipFill>
        <p:spPr>
          <a:xfrm>
            <a:off x="6357960" y="115920"/>
            <a:ext cx="2714760" cy="23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D0240-1BC1-42C0-B72F-CC0235852DC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2320" y="2491920"/>
            <a:ext cx="47512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17" descr="j0178300"/>
          <p:cNvPicPr/>
          <p:nvPr/>
        </p:nvPicPr>
        <p:blipFill>
          <a:blip r:embed="rId1"/>
          <a:stretch/>
        </p:blipFill>
        <p:spPr>
          <a:xfrm>
            <a:off x="1547640" y="1160640"/>
            <a:ext cx="1032120" cy="10317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Picture 7" descr="http://stickypictures.net/wp-content/uploads/2014/10/prayer-clip-art-2.jpg"/>
          <p:cNvPicPr/>
          <p:nvPr/>
        </p:nvPicPr>
        <p:blipFill>
          <a:blip r:embed="rId2"/>
          <a:stretch/>
        </p:blipFill>
        <p:spPr>
          <a:xfrm>
            <a:off x="5465880" y="2744640"/>
            <a:ext cx="3462120" cy="396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7367D-E0E6-4882-BB85-330B3EC0E2B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0" y="4203720"/>
            <a:ext cx="9144000" cy="33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3 clases de oració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EDIR — Esta es la oración de f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CAR — Esta es la oración de dedicac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LAMAR — Esta es la oración de interces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480" y="-54000"/>
            <a:ext cx="9144000" cy="52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¿Está alguno entre vosotros afligido? Haga oración… ¿Está alguno enfermo entre vosotros? Llame a los ancianos de la iglesia, y oren por él… Y la oración de fe salvará al enfermo, y el Señor lo levantará… Confesaos vuestras ofensas unos a otros, y orad unos por otros, para que seáis sanados. La oración eficaz del justo puede mucho.” </a:t>
            </a:r>
            <a:r>
              <a:rPr b="1" lang="es-ES" sz="3400" spc="-1" strike="noStrike">
                <a:solidFill>
                  <a:srgbClr val="ffffff"/>
                </a:solidFill>
                <a:latin typeface="Garamond"/>
              </a:rPr>
              <a:t>(Santiago 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5:13-17)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2B872-893D-427A-BA26-70EFC17EE59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5065560" y="3105000"/>
            <a:ext cx="4070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Picture 26" descr="j0178301"/>
          <p:cNvPicPr/>
          <p:nvPr/>
        </p:nvPicPr>
        <p:blipFill>
          <a:blip r:embed="rId1"/>
          <a:stretch/>
        </p:blipFill>
        <p:spPr>
          <a:xfrm>
            <a:off x="6335640" y="1197000"/>
            <a:ext cx="1006560" cy="10065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7" descr="http://www.kenandsue.org/images/Bible_clip_art_-colored_open.gif"/>
          <p:cNvPicPr/>
          <p:nvPr/>
        </p:nvPicPr>
        <p:blipFill>
          <a:blip r:embed="rId2"/>
          <a:stretch/>
        </p:blipFill>
        <p:spPr>
          <a:xfrm>
            <a:off x="250920" y="3105000"/>
            <a:ext cx="3889440" cy="3521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5F975-F1BC-4F8B-B87B-64B1B82C980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441000"/>
            <a:ext cx="914400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El Corazón 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de un líder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esarrollando las cualidades que diferencian a los líderes de otro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ección #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1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1" name="Picture 19" descr="j0236214"/>
          <p:cNvPicPr/>
          <p:nvPr/>
        </p:nvPicPr>
        <p:blipFill>
          <a:blip r:embed="rId1"/>
          <a:stretch/>
        </p:blipFill>
        <p:spPr>
          <a:xfrm>
            <a:off x="7240680" y="907920"/>
            <a:ext cx="2031840" cy="1779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36EB6-1322-4415-821F-84D1589017E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1"/>
          <p:cNvSpPr/>
          <p:nvPr/>
        </p:nvSpPr>
        <p:spPr>
          <a:xfrm>
            <a:off x="15840" y="388800"/>
            <a:ext cx="9128160" cy="74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Toda la Escritura es inspirada por Dios, y útil para enseñar, para redargüir, para corregir, para instruir en justicia, a fin de que el hombre de Dios sea perfecto, enteramente preparado para toda buena obra.”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3:16-17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Procura con diligencia presentarte a Dios aprobado, como obrero que no tiene de que avergonzarse, que usa bien la palabra de verdad.” 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2:15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3D26A-C4CE-4DEE-BD47-B8FB7E45BDF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5840" y="297000"/>
            <a:ext cx="9144000" cy="51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estudiosos de la Palab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 Dios examinan la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crituras para entende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u significado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un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todo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este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6199200" y="549360"/>
            <a:ext cx="2840040" cy="19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E1F8A-64B8-45FB-AC95-084DE8901D6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45720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4967280" y="2884320"/>
            <a:ext cx="4032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15" descr="j0178302"/>
          <p:cNvPicPr/>
          <p:nvPr/>
        </p:nvPicPr>
        <p:blipFill>
          <a:blip r:embed="rId1"/>
          <a:stretch/>
        </p:blipFill>
        <p:spPr>
          <a:xfrm>
            <a:off x="6227640" y="1219320"/>
            <a:ext cx="1044720" cy="10443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10" descr=""/>
          <p:cNvPicPr/>
          <p:nvPr/>
        </p:nvPicPr>
        <p:blipFill>
          <a:blip r:embed="rId2"/>
          <a:stretch/>
        </p:blipFill>
        <p:spPr>
          <a:xfrm>
            <a:off x="142920" y="2205000"/>
            <a:ext cx="4300560" cy="4164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2A79D-BE29-4B3E-92F2-658EBC5382A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0" y="7920"/>
            <a:ext cx="9144000" cy="72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 griegos y a no griegos, a sabios y a no sabios soy deudor. </a:t>
            </a: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sí que, en cuanto a mí, pronto estoy a anunciaros el evangelio también a vosotros que estáis en Roma. Porque no me avergüenzo del evangelio, porque es poder de Dios para salvación a todo aquel que cree; al judío primeramente, y también al griego.” 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Romanos 1:14-16)</a:t>
            </a:r>
            <a:br>
              <a:rPr sz="32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6B68E-2474-43B4-B1D9-620A8C5810F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0" y="-63360"/>
            <a:ext cx="9144000" cy="46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apóstol Pablo expresa tres actitudes concernientes al Evangeli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OBLIG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ANSIOS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estoy AVERGONZ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6" descr="http://kids.christiansunite.com/images/Bible_Stories/219.jpg"/>
          <p:cNvPicPr/>
          <p:nvPr/>
        </p:nvPicPr>
        <p:blipFill>
          <a:blip r:embed="rId1"/>
          <a:stretch/>
        </p:blipFill>
        <p:spPr>
          <a:xfrm>
            <a:off x="6184800" y="3149640"/>
            <a:ext cx="2952720" cy="370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10C6D-C0BC-485C-8306-F058B174F20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920" y="3038040"/>
            <a:ext cx="3852720" cy="3429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que espera resultad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3" name="Picture 13" descr="j0178303"/>
          <p:cNvPicPr/>
          <p:nvPr/>
        </p:nvPicPr>
        <p:blipFill>
          <a:blip r:embed="rId1"/>
          <a:stretch/>
        </p:blipFill>
        <p:spPr>
          <a:xfrm>
            <a:off x="1638360" y="1449360"/>
            <a:ext cx="1077840" cy="10778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7" descr=""/>
          <p:cNvPicPr/>
          <p:nvPr/>
        </p:nvPicPr>
        <p:blipFill>
          <a:blip r:embed="rId2"/>
          <a:stretch/>
        </p:blipFill>
        <p:spPr>
          <a:xfrm>
            <a:off x="4788000" y="1290600"/>
            <a:ext cx="4119480" cy="5186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5B929-6DBE-4845-B4EF-E6194C8B9E3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79640" y="3321000"/>
            <a:ext cx="4319640" cy="244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en actitud y en acción</a:t>
            </a:r>
            <a:br>
              <a:rPr sz="4000"/>
            </a:b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8" name="Picture 13" descr="j0178304"/>
          <p:cNvPicPr/>
          <p:nvPr/>
        </p:nvPicPr>
        <p:blipFill>
          <a:blip r:embed="rId1"/>
          <a:stretch/>
        </p:blipFill>
        <p:spPr>
          <a:xfrm>
            <a:off x="6192720" y="1305000"/>
            <a:ext cx="1079640" cy="10792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9" descr="http://sr.photos3.fotosearch.com/bthumb/CSP/CSP991/k11740221.jpg"/>
          <p:cNvPicPr/>
          <p:nvPr/>
        </p:nvPicPr>
        <p:blipFill>
          <a:blip r:embed="rId2"/>
          <a:stretch/>
        </p:blipFill>
        <p:spPr>
          <a:xfrm>
            <a:off x="154080" y="1459080"/>
            <a:ext cx="4525920" cy="523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A8B9F-F002-48FB-A9DE-2F0155ACDCF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17640" y="-114480"/>
            <a:ext cx="9001080" cy="81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Haya, pues, en vosotros este sentir que hubo también en Cristo Jesús, el cual, siendo en forma de Dios, no estimó el ser igual a Dios como cosa a que aferrarse, sino que se despojó a sí mismo, tomando forma de siervo, hecho semejante a los hombres; y estando en la condición de hombre, se humilló a sí mismo, haciéndose obediente hasta la muerte, y muerte de cruz.” 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Filipense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2:5-8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6A6F2-9D97-4142-8C17-7586FDB0C0D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8560" y="3104640"/>
            <a:ext cx="4392360" cy="273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en él mismo y en otr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5" name="Picture 13" descr="j0178305"/>
          <p:cNvPicPr/>
          <p:nvPr/>
        </p:nvPicPr>
        <p:blipFill>
          <a:blip r:embed="rId1"/>
          <a:stretch/>
        </p:blipFill>
        <p:spPr>
          <a:xfrm>
            <a:off x="1835280" y="1359000"/>
            <a:ext cx="1081080" cy="10810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7" descr="http://christrescuemission.org/yahoo_site_admin/assets/images/gift-within.187221124.png"/>
          <p:cNvPicPr/>
          <p:nvPr/>
        </p:nvPicPr>
        <p:blipFill>
          <a:blip r:embed="rId2"/>
          <a:stretch/>
        </p:blipFill>
        <p:spPr>
          <a:xfrm>
            <a:off x="5759280" y="895320"/>
            <a:ext cx="2521080" cy="5599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A5F3F-C059-423A-9582-9A155FED7A6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280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para impartir poder a otros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50" name="Group 18"/>
          <p:cNvGrpSpPr/>
          <p:nvPr/>
        </p:nvGrpSpPr>
        <p:grpSpPr>
          <a:xfrm>
            <a:off x="3959280" y="873000"/>
            <a:ext cx="1223640" cy="863280"/>
            <a:chOff x="3959280" y="873000"/>
            <a:chExt cx="1223640" cy="863280"/>
          </a:xfrm>
        </p:grpSpPr>
        <p:pic>
          <p:nvPicPr>
            <p:cNvPr id="151" name="Picture 15" descr="j0178297"/>
            <p:cNvPicPr/>
            <p:nvPr/>
          </p:nvPicPr>
          <p:blipFill>
            <a:blip r:embed="rId1"/>
            <a:stretch/>
          </p:blipFill>
          <p:spPr>
            <a:xfrm>
              <a:off x="3959280" y="873000"/>
              <a:ext cx="767880" cy="86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6" descr="j0178296"/>
            <p:cNvPicPr/>
            <p:nvPr/>
          </p:nvPicPr>
          <p:blipFill>
            <a:blip r:embed="rId2"/>
            <a:stretch/>
          </p:blipFill>
          <p:spPr>
            <a:xfrm>
              <a:off x="4413600" y="873000"/>
              <a:ext cx="769320" cy="86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Text Box 1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Picture 9" descr="http://www.meadechurch.org/Customer-Content/meadechurch/CMS/images/wash_5624c.jpg"/>
          <p:cNvPicPr/>
          <p:nvPr/>
        </p:nvPicPr>
        <p:blipFill>
          <a:blip r:embed="rId3"/>
          <a:stretch/>
        </p:blipFill>
        <p:spPr>
          <a:xfrm>
            <a:off x="1008000" y="4051440"/>
            <a:ext cx="4248360" cy="2690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http://thumbs.gograph.com/gg64542846.jpg"/>
          <p:cNvPicPr/>
          <p:nvPr/>
        </p:nvPicPr>
        <p:blipFill>
          <a:blip r:embed="rId4"/>
          <a:stretch/>
        </p:blipFill>
        <p:spPr>
          <a:xfrm>
            <a:off x="6372360" y="4027320"/>
            <a:ext cx="1333440" cy="2749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BD4A4-F03F-44AA-8E2B-9BB2CFA53BF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99640" y="728280"/>
            <a:ext cx="748836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Y los apacentó conforme a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integridad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 de su corazón, Los pastoreó con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pericia 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de sus manos.” 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(Psalmos 78:72)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343AD-D9BE-4BB8-957D-A71C1939FB8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owel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it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98"/>
          <p:cNvSpPr/>
          <p:nvPr/>
        </p:nvSpPr>
        <p:spPr>
          <a:xfrm>
            <a:off x="0" y="1736640"/>
            <a:ext cx="9325080" cy="512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24EC9-B735-4CA1-AEFD-1EFA922F6F9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6"/>
          <p:cNvSpPr/>
          <p:nvPr/>
        </p:nvSpPr>
        <p:spPr>
          <a:xfrm>
            <a:off x="4500720" y="1881360"/>
            <a:ext cx="349236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F43DF-510F-4B19-86DD-949D2227279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34B1E-BEF8-40AD-8118-66CF47AC822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29E78-5A39-4CD7-B4CC-E7FA8F1CEA9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42B47-0963-4D44-9D44-E552AB8112F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E0196-E777-4B39-9EBE-C2AAD41C6B1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C7ECA-E834-4A37-8806-F1465E55ADA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4500720" y="1881360"/>
            <a:ext cx="435600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BAF9F-4608-4DFD-BBE9-7518CBB7C2B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3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A0FB5-E10F-4D06-8E89-ED6D2B53773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3176640"/>
            <a:ext cx="4572000" cy="273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del Espíritu Santo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06" name="Group 17"/>
          <p:cNvGrpSpPr/>
          <p:nvPr/>
        </p:nvGrpSpPr>
        <p:grpSpPr>
          <a:xfrm>
            <a:off x="1440000" y="1449360"/>
            <a:ext cx="1193760" cy="862200"/>
            <a:chOff x="1440000" y="1449360"/>
            <a:chExt cx="1193760" cy="862200"/>
          </a:xfrm>
        </p:grpSpPr>
        <p:pic>
          <p:nvPicPr>
            <p:cNvPr id="207" name="Picture 14" descr="j0178297"/>
            <p:cNvPicPr/>
            <p:nvPr/>
          </p:nvPicPr>
          <p:blipFill>
            <a:blip r:embed="rId1"/>
            <a:stretch/>
          </p:blipFill>
          <p:spPr>
            <a:xfrm>
              <a:off x="144000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16" descr="j0178297"/>
            <p:cNvPicPr/>
            <p:nvPr/>
          </p:nvPicPr>
          <p:blipFill>
            <a:blip r:embed="rId2"/>
            <a:stretch/>
          </p:blipFill>
          <p:spPr>
            <a:xfrm>
              <a:off x="186552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9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0" name="Picture 2" descr="http://2.bp.blogspot.com/-89vKEtsDNyg/UuFzm8_VM1I/AAAAAAAAE2g/Y3ufAXUEELM/s1600/a+holy+spirit+clip+art.png+2.jpg"/>
          <p:cNvPicPr/>
          <p:nvPr/>
        </p:nvPicPr>
        <p:blipFill>
          <a:blip r:embed="rId3"/>
          <a:stretch/>
        </p:blipFill>
        <p:spPr>
          <a:xfrm>
            <a:off x="5041800" y="1584360"/>
            <a:ext cx="3645000" cy="4657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0AA24-9CF6-4A0C-8AAE-156AD154DDD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28728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b9efee"/>
                </a:solidFill>
                <a:latin typeface="Garamond"/>
              </a:rPr>
              <a:t>Hay dos lados de liderazgo:</a:t>
            </a:r>
            <a:br>
              <a:rPr sz="6600"/>
            </a:b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56" name="Rectangle 2" descr=""/>
          <p:cNvPicPr/>
          <p:nvPr/>
        </p:nvPicPr>
        <p:blipFill>
          <a:blip r:embed="rId1"/>
          <a:stretch/>
        </p:blipFill>
        <p:spPr>
          <a:xfrm>
            <a:off x="25560" y="1231920"/>
            <a:ext cx="9512280" cy="5105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http://en.clipart-fr.com/data/clipart/heart/heart_036.jpg"/>
          <p:cNvPicPr/>
          <p:nvPr/>
        </p:nvPicPr>
        <p:blipFill>
          <a:blip r:embed="rId2"/>
          <a:stretch/>
        </p:blipFill>
        <p:spPr>
          <a:xfrm>
            <a:off x="5003640" y="1378080"/>
            <a:ext cx="2616480" cy="2261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http://images.clipartpanda.com/hand-clip-art-black-and-white-hands-hi.png"/>
          <p:cNvPicPr/>
          <p:nvPr/>
        </p:nvPicPr>
        <p:blipFill>
          <a:blip r:embed="rId3"/>
          <a:stretch/>
        </p:blipFill>
        <p:spPr>
          <a:xfrm>
            <a:off x="287280" y="4184640"/>
            <a:ext cx="3373560" cy="2200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CA50B-12B7-4114-B364-4109F9FB131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autoridad espiritual con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ven a Dios moverse constantemente en sus minister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una vida que demanda una explicación sobrenatural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EB5BD-9A19-464B-BCF8-28EB18136CF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32000" y="2698560"/>
            <a:ext cx="4211640" cy="4005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15" name="Group 19"/>
          <p:cNvGrpSpPr/>
          <p:nvPr/>
        </p:nvGrpSpPr>
        <p:grpSpPr>
          <a:xfrm>
            <a:off x="6389640" y="1592280"/>
            <a:ext cx="1294920" cy="863640"/>
            <a:chOff x="6389640" y="1592280"/>
            <a:chExt cx="1294920" cy="863640"/>
          </a:xfrm>
        </p:grpSpPr>
        <p:pic>
          <p:nvPicPr>
            <p:cNvPr id="216" name="Picture 16" descr="j0178297"/>
            <p:cNvPicPr/>
            <p:nvPr/>
          </p:nvPicPr>
          <p:blipFill>
            <a:blip r:embed="rId1"/>
            <a:stretch/>
          </p:blipFill>
          <p:spPr>
            <a:xfrm>
              <a:off x="6389640" y="159228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18" descr="j0178298"/>
            <p:cNvPicPr/>
            <p:nvPr/>
          </p:nvPicPr>
          <p:blipFill>
            <a:blip r:embed="rId2"/>
            <a:stretch/>
          </p:blipFill>
          <p:spPr>
            <a:xfrm>
              <a:off x="6821280" y="1592280"/>
              <a:ext cx="863280" cy="8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8" name="Text Box 20"/>
          <p:cNvSpPr/>
          <p:nvPr/>
        </p:nvSpPr>
        <p:spPr>
          <a:xfrm>
            <a:off x="0" y="18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9" name="Picture 7" descr=""/>
          <p:cNvPicPr/>
          <p:nvPr/>
        </p:nvPicPr>
        <p:blipFill>
          <a:blip r:embed="rId3"/>
          <a:stretch/>
        </p:blipFill>
        <p:spPr>
          <a:xfrm>
            <a:off x="514440" y="2602080"/>
            <a:ext cx="3960720" cy="3646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F8ADB-D010-4C18-94A9-D3B93060B5A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2349360"/>
            <a:ext cx="8136000" cy="1773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Sed imitadores de mi, asi como yo de Cristo.”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(1 Cor. 11:1)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0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0FB6B-1512-4AF6-8E19-211E1DC6ACE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3" name="Picture 6" descr=""/>
          <p:cNvPicPr/>
          <p:nvPr/>
        </p:nvPicPr>
        <p:blipFill>
          <a:blip r:embed="rId1"/>
          <a:stretch/>
        </p:blipFill>
        <p:spPr>
          <a:xfrm>
            <a:off x="144360" y="520560"/>
            <a:ext cx="8856720" cy="574992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3"/>
          <p:cNvSpPr/>
          <p:nvPr/>
        </p:nvSpPr>
        <p:spPr>
          <a:xfrm>
            <a:off x="4680000" y="1700280"/>
            <a:ext cx="2556000" cy="331308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4680000" y="501336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324000" y="4869000"/>
            <a:ext cx="2555640" cy="57600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360360" y="350028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09A8-5F21-45CD-83E8-331832A9C29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0" y="184644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iderazgo funciona en base a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NFIANZ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 integridad tiene u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VALO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alta influenc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ra destruir la tendencia de trabajar más duro por nuest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MAGE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que por nuestra integr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ntegridad significa VIVIR la verdad primero,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Una personalidad carismática puede atraer gente, pero solo la INTEGRIDAD los mantendrá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azones por las que un corazón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tegridad es tan importante pa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2" name="Picture 19" descr="j0236214"/>
          <p:cNvPicPr/>
          <p:nvPr/>
        </p:nvPicPr>
        <p:blipFill>
          <a:blip r:embed="rId1"/>
          <a:stretch/>
        </p:blipFill>
        <p:spPr>
          <a:xfrm>
            <a:off x="7020000" y="-31680"/>
            <a:ext cx="2031840" cy="1781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20337-227F-4E8C-BFE0-7A1E2467C84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0" y="179712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integridad es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VICTORI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, no un regal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sted sólo 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ONVERTIRÁ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n lo que se está convirtiendo — ahora mism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 están para vivir en un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TÁNDAR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más alto que sus seguidor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0" y="-139680"/>
            <a:ext cx="74883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azones por las que un corazón de integridad es tan importante para los líder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7" name="Picture 19" descr="j0236214"/>
          <p:cNvPicPr/>
          <p:nvPr/>
        </p:nvPicPr>
        <p:blipFill>
          <a:blip r:embed="rId1"/>
          <a:stretch/>
        </p:blipFill>
        <p:spPr>
          <a:xfrm>
            <a:off x="6808680" y="17640"/>
            <a:ext cx="2030400" cy="1779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0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264DB-1303-413D-909D-E9E54A3C08A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15840" y="19080"/>
            <a:ext cx="9128160" cy="121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la vi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BSTÁCULO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E47D0-37AE-45F5-BF3C-73191AE41DF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15840" y="19080"/>
            <a:ext cx="9128160" cy="10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ue espera resultad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actitud y en ac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él mismo y en otro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ara impartir pode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el Espíritu Sant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F2F4F-1B9E-43D6-9CA1-CA2FA162CC3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Preguntas 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o Comentarios?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BA55C-6855-4DFF-B889-265BCB0DC67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REPARANDO NUESTROS CORAZONES</a:t>
            </a:r>
            <a:br>
              <a:rPr sz="7200"/>
            </a:b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14760" y="1736280"/>
            <a:ext cx="9325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Garamond"/>
              </a:rPr>
              <a:t>Hay dos cuestiones importantes (</a:t>
            </a: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Hechos 9:3-6)(Hechos 22:7,10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1. “¿Quién eres Señor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“¿Qué quieres que y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haga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2" name="Picture 6" descr="http://images.clipartpanda.com/answer-clipart-question_clipart.gif"/>
          <p:cNvPicPr/>
          <p:nvPr/>
        </p:nvPicPr>
        <p:blipFill>
          <a:blip r:embed="rId1"/>
          <a:stretch/>
        </p:blipFill>
        <p:spPr>
          <a:xfrm>
            <a:off x="7497720" y="2851200"/>
            <a:ext cx="1646280" cy="4006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C6FB4-73F3-4FB4-925C-2E6B3A26E3E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600000" y="2852280"/>
            <a:ext cx="554364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1" lang="en-US" sz="6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 en la vida.</a:t>
            </a:r>
            <a:endParaRPr b="0" lang="en-US" sz="6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5" name="Picture 13" descr="j0178297"/>
          <p:cNvPicPr/>
          <p:nvPr/>
        </p:nvPicPr>
        <p:blipFill>
          <a:blip r:embed="rId1"/>
          <a:stretch/>
        </p:blipFill>
        <p:spPr>
          <a:xfrm>
            <a:off x="5894280" y="1293840"/>
            <a:ext cx="954360" cy="954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179280" y="2862360"/>
            <a:ext cx="3355920" cy="28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B8554-AA81-4E84-9540-2F1607F877F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0" y="260280"/>
            <a:ext cx="9144000" cy="78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Pero cuantas cosas eran para mí ganancia, las he estimado como pérdida por amor de Cristo. Y ciertamente, aun </a:t>
            </a:r>
            <a:r>
              <a:rPr b="1" i="1" lang="es-ES" sz="3000" spc="-1" strike="noStrike" u="sng">
                <a:solidFill>
                  <a:srgbClr val="ffffff"/>
                </a:solidFill>
                <a:uFillTx/>
                <a:latin typeface="Garamond"/>
              </a:rPr>
              <a:t>estimo todas las cosas como pérdida por la excelencia del conocimiento de Cristo Jesús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, mi Señor, por amor del cual lo he perdido todo, y lo tengo por basura, para ganar a Cristo, y ser hallado en él, … a fin de conocerle, y el poder de su resurrección, y la participación de sus padecimientos, llegando a ser semejante a él en su muerte, si en alguna manera llegase a la resurrección de entre los muertos. … Una cosa hago: olvidando ciertamente lo que queda atrás, y extendiéndome a lo que está delante, prosigo a la meta, al premio del supremo llamamiento de Dios en Cristo Jesús.” </a:t>
            </a:r>
            <a:r>
              <a:rPr b="1" lang="es-ES" sz="3000" spc="-1" strike="noStrike">
                <a:solidFill>
                  <a:srgbClr val="ffffff"/>
                </a:solidFill>
                <a:latin typeface="Garamond"/>
              </a:rPr>
              <a:t>(Fil. 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3:7-14)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EC010-72E1-4B59-83C6-9136CE567FF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0" y="800280"/>
            <a:ext cx="9144000" cy="9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ú debes responder estas preguntas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carga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ones espiritu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talentos natur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eseos y pasi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es lo que otros dicen de ti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sueños y vis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oportunidades tienes frente a ti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Rectangle 15"/>
          <p:cNvSpPr/>
          <p:nvPr/>
        </p:nvSpPr>
        <p:spPr>
          <a:xfrm>
            <a:off x="0" y="0"/>
            <a:ext cx="91440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¿Conoce el propósito que Dios te ha dado? 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F1600-9DAD-4982-A6AF-76DF4F3D22F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213000"/>
            <a:ext cx="5256360" cy="2951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OBSTÁCULO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75" name="Picture 17" descr="j0178298"/>
          <p:cNvPicPr/>
          <p:nvPr/>
        </p:nvPicPr>
        <p:blipFill>
          <a:blip r:embed="rId1"/>
          <a:stretch/>
        </p:blipFill>
        <p:spPr>
          <a:xfrm>
            <a:off x="2124000" y="141300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7" name="Picture 7" descr="http://986045497.r.cdn77.net/wp-content/uploads/2011/06/Ball-and-Chain.jpg"/>
          <p:cNvPicPr/>
          <p:nvPr/>
        </p:nvPicPr>
        <p:blipFill>
          <a:blip r:embed="rId2"/>
          <a:stretch/>
        </p:blipFill>
        <p:spPr>
          <a:xfrm>
            <a:off x="5796000" y="2276640"/>
            <a:ext cx="3168720" cy="4392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17:23:03Z</dcterms:modified>
  <cp:revision>147</cp:revision>
  <dc:subject/>
  <dc:title>PowerPoint Presentation</dc:title>
</cp:coreProperties>
</file>